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6"/>
        <p:sld r:id="rId17"/>
        <p:sld r:id="rId18"/>
        <p:sld r:id="rId20"/>
        <p:sld r:id="rId21"/>
        <p:sld r:id="rId22"/>
        <p:sld r:id="rId23"/>
        <p:sld r:id="rId25"/>
        <p:sld r:id="rId26"/>
        <p:sld r:id="rId27"/>
        <p:sld r:id="rId28"/>
        <p:sld r:id="rId29"/>
        <p:sld r:id="rId31"/>
        <p:sld r:id="rId32"/>
        <p:sld r:id="rId33"/>
        <p:sld r:id="rId34"/>
        <p:sld r:id="rId37"/>
      </p:sldLst>
    </p:custShow>
    <p:custShow name="bellringers" id="1">
      <p:sldLst>
        <p:sld r:id="rId27"/>
      </p:sldLst>
    </p:custShow>
    <p:custShow name="transparencies" id="2">
      <p:sldLst>
        <p:sld r:id="rId21"/>
        <p:sld r:id="rId32"/>
      </p:sldLst>
    </p:custShow>
    <p:custShow name="SW7 sect 1" id="3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6"/>
        <p:sld r:id="rId17"/>
        <p:sld r:id="rId18"/>
        <p:sld r:id="rId20"/>
        <p:sld r:id="rId21"/>
        <p:sld r:id="rId22"/>
        <p:sld r:id="rId23"/>
        <p:sld r:id="rId25"/>
        <p:sld r:id="rId26"/>
        <p:sld r:id="rId27"/>
        <p:sld r:id="rId28"/>
        <p:sld r:id="rId29"/>
        <p:sld r:id="rId31"/>
        <p:sld r:id="rId32"/>
        <p:sld r:id="rId33"/>
        <p:sld r:id="rId34"/>
        <p:sld r:id="rId37"/>
      </p:sldLst>
    </p:custShow>
    <p:custShow name="SW7 sect 2" id="4">
      <p:sldLst>
        <p:sld r:id="rId10"/>
        <p:sld r:id="rId11"/>
        <p:sld r:id="rId12"/>
        <p:sld r:id="rId14"/>
        <p:sld r:id="rId16"/>
        <p:sld r:id="rId17"/>
        <p:sld r:id="rId18"/>
        <p:sld r:id="rId20"/>
        <p:sld r:id="rId21"/>
        <p:sld r:id="rId22"/>
        <p:sld r:id="rId23"/>
        <p:sld r:id="rId25"/>
        <p:sld r:id="rId26"/>
        <p:sld r:id="rId27"/>
        <p:sld r:id="rId28"/>
        <p:sld r:id="rId29"/>
        <p:sld r:id="rId31"/>
        <p:sld r:id="rId32"/>
        <p:sld r:id="rId33"/>
        <p:sld r:id="rId34"/>
        <p:sld r:id="rId37"/>
      </p:sldLst>
    </p:custShow>
    <p:custShow name="SW7 sect 3" id="5">
      <p:sldLst>
        <p:sld r:id="rId22"/>
        <p:sld r:id="rId23"/>
        <p:sld r:id="rId25"/>
        <p:sld r:id="rId26"/>
        <p:sld r:id="rId27"/>
        <p:sld r:id="rId28"/>
        <p:sld r:id="rId29"/>
        <p:sld r:id="rId31"/>
        <p:sld r:id="rId32"/>
        <p:sld r:id="rId33"/>
        <p:sld r:id="rId34"/>
        <p:sld r:id="rId37"/>
      </p:sldLst>
    </p:custShow>
    <p:custShow name="SW7 sect 4" id="6">
      <p:sldLst>
        <p:sld r:id="rId27"/>
        <p:sld r:id="rId28"/>
        <p:sld r:id="rId29"/>
        <p:sld r:id="rId31"/>
        <p:sld r:id="rId32"/>
        <p:sld r:id="rId33"/>
        <p:sld r:id="rId34"/>
        <p:sld r:id="rId3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6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9"/>
          <p:cNvSpPr/>
          <p:nvPr/>
        </p:nvSpPr>
        <p:spPr>
          <a:xfrm>
            <a:off x="4495680" y="6286680"/>
            <a:ext cx="1716120" cy="27432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134979" h="21600">
                <a:moveTo>
                  <a:pt x="0" y="0"/>
                </a:moveTo>
                <a:lnTo>
                  <a:pt x="134979" y="0"/>
                </a:lnTo>
                <a:lnTo>
                  <a:pt x="134979" y="21600"/>
                </a:lnTo>
                <a:lnTo>
                  <a:pt x="0" y="21600"/>
                </a:lnTo>
                <a:close/>
              </a:path>
              <a:path fill="lightenLess" w="134979" h="21600">
                <a:moveTo>
                  <a:pt x="0" y="0"/>
                </a:moveTo>
                <a:lnTo>
                  <a:pt x="134979" y="0"/>
                </a:lnTo>
                <a:lnTo>
                  <a:pt x="133579" y="1400"/>
                </a:lnTo>
                <a:lnTo>
                  <a:pt x="1400" y="1400"/>
                </a:lnTo>
                <a:close/>
              </a:path>
              <a:path fill="darken" w="134979" h="21600">
                <a:moveTo>
                  <a:pt x="134979" y="0"/>
                </a:moveTo>
                <a:lnTo>
                  <a:pt x="134979" y="21600"/>
                </a:lnTo>
                <a:lnTo>
                  <a:pt x="133579" y="20200"/>
                </a:lnTo>
                <a:lnTo>
                  <a:pt x="133579" y="1400"/>
                </a:lnTo>
                <a:close/>
              </a:path>
              <a:path fill="darkenLess" w="134979" h="21600">
                <a:moveTo>
                  <a:pt x="13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79" y="20200"/>
                </a:lnTo>
                <a:close/>
              </a:path>
              <a:path fill="lighten" w="13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0"/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495680" y="6286680"/>
            <a:ext cx="1716120" cy="27432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320"/>
              <a:gd name="textAreaBottom" fmla="*/ 256680 h 274320"/>
            </a:gdLst>
            <a:ahLst/>
            <a:rect l="textAreaLeft" t="textAreaTop" r="textAreaRight" b="textAreaBottom"/>
            <a:pathLst>
              <a:path w="134979" h="21600">
                <a:moveTo>
                  <a:pt x="0" y="0"/>
                </a:moveTo>
                <a:lnTo>
                  <a:pt x="134979" y="0"/>
                </a:lnTo>
                <a:lnTo>
                  <a:pt x="134979" y="21600"/>
                </a:lnTo>
                <a:lnTo>
                  <a:pt x="0" y="21600"/>
                </a:lnTo>
                <a:close/>
              </a:path>
              <a:path fill="lightenLess" w="134979" h="21600">
                <a:moveTo>
                  <a:pt x="0" y="0"/>
                </a:moveTo>
                <a:lnTo>
                  <a:pt x="134979" y="0"/>
                </a:lnTo>
                <a:lnTo>
                  <a:pt x="133579" y="1400"/>
                </a:lnTo>
                <a:lnTo>
                  <a:pt x="1400" y="1400"/>
                </a:lnTo>
                <a:close/>
              </a:path>
              <a:path fill="darken" w="134979" h="21600">
                <a:moveTo>
                  <a:pt x="134979" y="0"/>
                </a:moveTo>
                <a:lnTo>
                  <a:pt x="134979" y="21600"/>
                </a:lnTo>
                <a:lnTo>
                  <a:pt x="133579" y="20200"/>
                </a:lnTo>
                <a:lnTo>
                  <a:pt x="133579" y="1400"/>
                </a:lnTo>
                <a:close/>
              </a:path>
              <a:path fill="darkenLess" w="134979" h="21600">
                <a:moveTo>
                  <a:pt x="1349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579" y="20200"/>
                </a:lnTo>
                <a:close/>
              </a:path>
              <a:path fill="lighten" w="1349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3429000" y="2127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World of Lif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990720" y="2484360"/>
            <a:ext cx="792468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91836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5"/>
          <p:cNvSpPr/>
          <p:nvPr/>
        </p:nvSpPr>
        <p:spPr>
          <a:xfrm>
            <a:off x="990720" y="167148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6"/>
          <p:cNvSpPr/>
          <p:nvPr/>
        </p:nvSpPr>
        <p:spPr>
          <a:xfrm>
            <a:off x="795240" y="2484360"/>
            <a:ext cx="4767480" cy="457200"/>
          </a:xfrm>
          <a:custGeom>
            <a:avLst/>
            <a:gdLst>
              <a:gd name="textAreaLeft" fmla="*/ 29520 w 4767480"/>
              <a:gd name="textAreaRight" fmla="*/ 4737960 w 4767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25075" h="21600">
                <a:moveTo>
                  <a:pt x="0" y="0"/>
                </a:moveTo>
                <a:lnTo>
                  <a:pt x="225075" y="0"/>
                </a:lnTo>
                <a:lnTo>
                  <a:pt x="225075" y="21600"/>
                </a:lnTo>
                <a:lnTo>
                  <a:pt x="0" y="21600"/>
                </a:lnTo>
                <a:close/>
              </a:path>
              <a:path fill="lightenLess" w="225075" h="21600">
                <a:moveTo>
                  <a:pt x="0" y="0"/>
                </a:moveTo>
                <a:lnTo>
                  <a:pt x="225075" y="0"/>
                </a:lnTo>
                <a:lnTo>
                  <a:pt x="223675" y="1400"/>
                </a:lnTo>
                <a:lnTo>
                  <a:pt x="1400" y="1400"/>
                </a:lnTo>
                <a:close/>
              </a:path>
              <a:path fill="darken" w="225075" h="21600">
                <a:moveTo>
                  <a:pt x="225075" y="0"/>
                </a:moveTo>
                <a:lnTo>
                  <a:pt x="225075" y="21600"/>
                </a:lnTo>
                <a:lnTo>
                  <a:pt x="223675" y="20200"/>
                </a:lnTo>
                <a:lnTo>
                  <a:pt x="223675" y="1400"/>
                </a:lnTo>
                <a:close/>
              </a:path>
              <a:path fill="darkenLess" w="225075" h="21600">
                <a:moveTo>
                  <a:pt x="225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75" y="20200"/>
                </a:lnTo>
                <a:close/>
              </a:path>
              <a:path fill="lighten" w="225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7"/>
          <p:cNvSpPr/>
          <p:nvPr/>
        </p:nvSpPr>
        <p:spPr>
          <a:xfrm>
            <a:off x="795240" y="3094200"/>
            <a:ext cx="4386240" cy="457200"/>
          </a:xfrm>
          <a:custGeom>
            <a:avLst/>
            <a:gdLst>
              <a:gd name="textAreaLeft" fmla="*/ 29520 w 4386240"/>
              <a:gd name="textAreaRight" fmla="*/ 4356720 w 43862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07078" h="21600">
                <a:moveTo>
                  <a:pt x="0" y="0"/>
                </a:moveTo>
                <a:lnTo>
                  <a:pt x="207078" y="0"/>
                </a:lnTo>
                <a:lnTo>
                  <a:pt x="207078" y="21600"/>
                </a:lnTo>
                <a:lnTo>
                  <a:pt x="0" y="21600"/>
                </a:lnTo>
                <a:close/>
              </a:path>
              <a:path fill="lightenLess" w="207078" h="21600">
                <a:moveTo>
                  <a:pt x="0" y="0"/>
                </a:moveTo>
                <a:lnTo>
                  <a:pt x="207078" y="0"/>
                </a:lnTo>
                <a:lnTo>
                  <a:pt x="205678" y="1400"/>
                </a:lnTo>
                <a:lnTo>
                  <a:pt x="1400" y="1400"/>
                </a:lnTo>
                <a:close/>
              </a:path>
              <a:path fill="darken" w="207078" h="21600">
                <a:moveTo>
                  <a:pt x="207078" y="0"/>
                </a:moveTo>
                <a:lnTo>
                  <a:pt x="207078" y="21600"/>
                </a:lnTo>
                <a:lnTo>
                  <a:pt x="205678" y="20200"/>
                </a:lnTo>
                <a:lnTo>
                  <a:pt x="205678" y="1400"/>
                </a:lnTo>
                <a:close/>
              </a:path>
              <a:path fill="darkenLess" w="207078" h="21600">
                <a:moveTo>
                  <a:pt x="207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678" y="20200"/>
                </a:lnTo>
                <a:close/>
              </a:path>
              <a:path fill="lighten" w="207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8"/>
          <p:cNvSpPr/>
          <p:nvPr/>
        </p:nvSpPr>
        <p:spPr>
          <a:xfrm>
            <a:off x="795240" y="3780000"/>
            <a:ext cx="4005360" cy="457200"/>
          </a:xfrm>
          <a:custGeom>
            <a:avLst/>
            <a:gdLst>
              <a:gd name="textAreaLeft" fmla="*/ 29520 w 4005360"/>
              <a:gd name="textAreaRight" fmla="*/ 3975840 w 4005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89098" h="21600">
                <a:moveTo>
                  <a:pt x="0" y="0"/>
                </a:moveTo>
                <a:lnTo>
                  <a:pt x="189098" y="0"/>
                </a:lnTo>
                <a:lnTo>
                  <a:pt x="189098" y="21600"/>
                </a:lnTo>
                <a:lnTo>
                  <a:pt x="0" y="21600"/>
                </a:lnTo>
                <a:close/>
              </a:path>
              <a:path fill="lightenLess" w="189098" h="21600">
                <a:moveTo>
                  <a:pt x="0" y="0"/>
                </a:moveTo>
                <a:lnTo>
                  <a:pt x="189098" y="0"/>
                </a:lnTo>
                <a:lnTo>
                  <a:pt x="187698" y="1400"/>
                </a:lnTo>
                <a:lnTo>
                  <a:pt x="1400" y="1400"/>
                </a:lnTo>
                <a:close/>
              </a:path>
              <a:path fill="darken" w="189098" h="21600">
                <a:moveTo>
                  <a:pt x="189098" y="0"/>
                </a:moveTo>
                <a:lnTo>
                  <a:pt x="189098" y="21600"/>
                </a:lnTo>
                <a:lnTo>
                  <a:pt x="187698" y="20200"/>
                </a:lnTo>
                <a:lnTo>
                  <a:pt x="187698" y="1400"/>
                </a:lnTo>
                <a:close/>
              </a:path>
              <a:path fill="darkenLess" w="189098" h="21600">
                <a:moveTo>
                  <a:pt x="189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698" y="20200"/>
                </a:lnTo>
                <a:close/>
              </a:path>
              <a:path fill="lighten" w="189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9"/>
          <p:cNvSpPr/>
          <p:nvPr/>
        </p:nvSpPr>
        <p:spPr>
          <a:xfrm>
            <a:off x="795240" y="4465800"/>
            <a:ext cx="6062760" cy="457200"/>
          </a:xfrm>
          <a:custGeom>
            <a:avLst/>
            <a:gdLst>
              <a:gd name="textAreaLeft" fmla="*/ 29520 w 6062760"/>
              <a:gd name="textAreaRight" fmla="*/ 6033240 w 6062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6221" h="21600">
                <a:moveTo>
                  <a:pt x="0" y="0"/>
                </a:moveTo>
                <a:lnTo>
                  <a:pt x="286221" y="0"/>
                </a:lnTo>
                <a:lnTo>
                  <a:pt x="286221" y="21600"/>
                </a:lnTo>
                <a:lnTo>
                  <a:pt x="0" y="21600"/>
                </a:lnTo>
                <a:close/>
              </a:path>
              <a:path fill="lightenLess" w="286221" h="21600">
                <a:moveTo>
                  <a:pt x="0" y="0"/>
                </a:moveTo>
                <a:lnTo>
                  <a:pt x="286221" y="0"/>
                </a:lnTo>
                <a:lnTo>
                  <a:pt x="284821" y="1400"/>
                </a:lnTo>
                <a:lnTo>
                  <a:pt x="1400" y="1400"/>
                </a:lnTo>
                <a:close/>
              </a:path>
              <a:path fill="darken" w="286221" h="21600">
                <a:moveTo>
                  <a:pt x="286221" y="0"/>
                </a:moveTo>
                <a:lnTo>
                  <a:pt x="286221" y="21600"/>
                </a:lnTo>
                <a:lnTo>
                  <a:pt x="284821" y="20200"/>
                </a:lnTo>
                <a:lnTo>
                  <a:pt x="284821" y="1400"/>
                </a:lnTo>
                <a:close/>
              </a:path>
              <a:path fill="darkenLess" w="286221" h="21600">
                <a:moveTo>
                  <a:pt x="286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821" y="20200"/>
                </a:lnTo>
                <a:close/>
              </a:path>
              <a:path fill="lighten" w="286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008000" y="2255760"/>
            <a:ext cx="71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ke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1008000" y="3063960"/>
            <a:ext cx="71852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ccurate Observa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nformation that you gather through your senses is an observation. Scientist use standard tools and methods to make and record observ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055520" y="16794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orm a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1055520" y="2563920"/>
            <a:ext cx="718524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ypothe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possible explanation or answer to a question that is based on observation and can b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tatement of cause and effect that can be used to set up a test for a hypothesis is called a pred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1523880" y="1766880"/>
            <a:ext cx="6248520" cy="3887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823680" y="106668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ypothesis Makes Predi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1008000" y="123336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st the Hy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1008000" y="1828800"/>
            <a:ext cx="71852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nder Control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trolled experiment tests only one factor at a time and consists of a control group and one or more experimental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8" descr=""/>
          <p:cNvPicPr/>
          <p:nvPr/>
        </p:nvPicPr>
        <p:blipFill>
          <a:blip r:embed="rId2"/>
          <a:stretch/>
        </p:blipFill>
        <p:spPr>
          <a:xfrm>
            <a:off x="2055960" y="3048120"/>
            <a:ext cx="5181480" cy="28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1008000" y="17398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est the Hypothesi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990720" y="2563920"/>
            <a:ext cx="718488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igning an Experiment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ing a good experiment requires planning and a consideration of all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llecting Data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keep clear, accurate, honest records of their data so that other scientists can repeat the experiment and verify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838080" y="10666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alyze th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1008000" y="1736640"/>
            <a:ext cx="318312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y finish their tests, scientists must analyze the results. Analyzing the results helps scientists explain and focus on the effect of the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4441680" y="1219320"/>
            <a:ext cx="361656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900360" y="-3168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1008000" y="22320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raw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968400" y="3040200"/>
            <a:ext cx="7224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must conclude if the results of their tests support the hypothesis. Proving that a hypothesis is not true can be as valuable as proving that it 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008000" y="13255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munic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990720" y="2133720"/>
            <a:ext cx="754380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finishing an investigation, scientists communicate their resul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ing allows other scientists to repeat experiments to see if they get the sam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, new data lead scientists to change their hypothe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7" descr=""/>
          <p:cNvPicPr/>
          <p:nvPr/>
        </p:nvPicPr>
        <p:blipFill>
          <a:blip r:embed="rId2"/>
          <a:stretch/>
        </p:blipFill>
        <p:spPr>
          <a:xfrm>
            <a:off x="958680" y="1106640"/>
            <a:ext cx="7413840" cy="4989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8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968400" y="2664000"/>
            <a:ext cx="74134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amples of three types of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enefits and limitations of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ways that scientists use hypotheses, theories, and la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990720" y="1825560"/>
            <a:ext cx="58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3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990720" y="2763720"/>
            <a:ext cx="74134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mportance of asking questions in sc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life science a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ways life science is beneficial to living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990720" y="184932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1008000" y="15778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Scientif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1008000" y="2340000"/>
            <a:ext cx="7050240" cy="33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ysical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Physical models, such as miniature volcanoes and steam engines, look like the thing that they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thematical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mathematical model may be made up of numbers, equations, and other forms of data. Charts and graphs are examples of mathematical model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1008000" y="20257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ypes of Scientific Model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1141560" y="2863800"/>
            <a:ext cx="691668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ceptual Mode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nceptual models are systems of ideas or comparisons of unfamiliar things with familiar things to help explain unfamiliar id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1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1008000" y="14018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thematical Model: A Punnet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044720" y="2438280"/>
            <a:ext cx="230796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unnett square helps scientists study the passing of traits from parents to off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2" descr=""/>
          <p:cNvPicPr/>
          <p:nvPr/>
        </p:nvPicPr>
        <p:blipFill>
          <a:blip r:embed="rId2"/>
          <a:stretch/>
        </p:blipFill>
        <p:spPr>
          <a:xfrm>
            <a:off x="3557520" y="2016000"/>
            <a:ext cx="4443480" cy="326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1008000" y="12794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uilding Scientif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1008000" y="2011320"/>
            <a:ext cx="7526520" cy="37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tific Theo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n explanation that ties together many related observations, facts, and tested hypotheses is called 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tific Law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scientific law is a statement of wha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en in a specific situation. A law tells you how thing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tific Chan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f new evidence challenges an accepted idea, scientists must reexamine the old evidence and reevaluate the old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3200400" y="1522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027080" y="18637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1027080" y="2597040"/>
            <a:ext cx="7431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an answer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ce jour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following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do you think scientists use tools such as graduated cylinders and stopwatc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1"/>
          <p:cNvSpPr/>
          <p:nvPr/>
        </p:nvSpPr>
        <p:spPr>
          <a:xfrm>
            <a:off x="3200400" y="152280"/>
            <a:ext cx="49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1066680" y="2111400"/>
            <a:ext cx="7413840" cy="34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examples of how life scientists use computers and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tools life scientists use or observe organis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importance of the International System of Units, and give four examples of SI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990720" y="131904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1"/>
          <p:cNvSpPr/>
          <p:nvPr/>
        </p:nvSpPr>
        <p:spPr>
          <a:xfrm>
            <a:off x="3200400" y="152280"/>
            <a:ext cx="48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1008000" y="13208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puters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077840" y="2054160"/>
            <a:ext cx="760896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application of sciences for practical purpo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s are used to create graphs, solve complex equations, and analyze and communicat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"/>
          <p:cNvSpPr/>
          <p:nvPr/>
        </p:nvSpPr>
        <p:spPr>
          <a:xfrm>
            <a:off x="3200400" y="152280"/>
            <a:ext cx="48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008000" y="13208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ools for Se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1077840" y="2054160"/>
            <a:ext cx="7608960" cy="31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und Light Microscop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an instrument that uses two or more lenses to magnify small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ectron Microscop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s a beam of electrons to magnify obje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electron microscopes produce clearer and more detailed images than light microscope, they cannot be used to observe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1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1008000" y="18558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its of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1008000" y="2587680"/>
            <a:ext cx="7373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nternational System of Unit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un by the French Academy of Sciences in the late 1700s, the SI is used by almost all countrie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SI units are based on the number 10, which makes conversion from one unit to another eas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7" descr=""/>
          <p:cNvPicPr/>
          <p:nvPr/>
        </p:nvPicPr>
        <p:blipFill>
          <a:blip r:embed="rId2"/>
          <a:stretch/>
        </p:blipFill>
        <p:spPr>
          <a:xfrm>
            <a:off x="1882800" y="1084320"/>
            <a:ext cx="5545080" cy="50004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8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9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9907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t All Starts with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1008000" y="2097000"/>
            <a:ext cx="71852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fe Sci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 study of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 your Own Backy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ask questions about familia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uring the Wor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estions you ask about your neighborhood are just a sample of all the questions you could ask about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1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1008000" y="132408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1008000" y="2125800"/>
            <a:ext cx="745020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basic unit of length in the SI is the 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r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measure of how much surface an object has. Use the following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rea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length 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olu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measure of the size of a body or region in three-dimensional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0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1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969840" y="184320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asurement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969840" y="2819520"/>
            <a:ext cx="771696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A measure of the amount of matter in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mper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he measure of how hot (or cold) somethin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2362320" y="1955880"/>
            <a:ext cx="4724280" cy="3682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1033200" y="1131840"/>
            <a:ext cx="39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804960" y="1563840"/>
            <a:ext cx="7696080" cy="360972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923040" y="0"/>
            <a:ext cx="227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1"/>
          <p:cNvSpPr/>
          <p:nvPr/>
        </p:nvSpPr>
        <p:spPr>
          <a:xfrm>
            <a:off x="3200400" y="152280"/>
            <a:ext cx="48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ection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s, Measurement, and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900360" y="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990720" y="1427040"/>
            <a:ext cx="76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afety Ru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990720" y="2463840"/>
            <a:ext cx="373356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your teacher’s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lab procedures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 special attention to safety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9" descr=""/>
          <p:cNvPicPr/>
          <p:nvPr/>
        </p:nvPicPr>
        <p:blipFill>
          <a:blip r:embed="rId2"/>
          <a:stretch/>
        </p:blipFill>
        <p:spPr>
          <a:xfrm>
            <a:off x="4551480" y="1542960"/>
            <a:ext cx="3949560" cy="379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1008000" y="1324080"/>
            <a:ext cx="73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fe Scien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1055520" y="2063880"/>
            <a:ext cx="71852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are life scienti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yone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nd Men from any cultural background can become life scient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ywhere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scientists carry out investigations in laboratories, on farms, in forests, on the ocean floor––even in s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ything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scientists study any thing that is a live, or that used to be alive, that interests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1066680" y="154944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y Ask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1055520" y="2387520"/>
            <a:ext cx="7185240" cy="27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ighting Dis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Science has led to many life-saving discoveries, such as the vaccination for pol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nderstanding Inherited Dise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By learning about how some diseases are inherited and how they affect people, scientists hope to find ways to prevent or cure these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king About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1008000" y="16765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y Ask Questions?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008000" y="2486160"/>
            <a:ext cx="718524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tecting the Environmen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Understanding how we affect the world around us is the first step in finding solutions to problems such as pollution and the extinction of wildl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044720" y="2286000"/>
            <a:ext cx="7413480" cy="30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fic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ppropriate design of a controlled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ormation in tables and graphs to analyze experimental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scientific knowledge can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90720" y="1447920"/>
            <a:ext cx="56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1008000" y="1905120"/>
            <a:ext cx="767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hat Are Scientific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112760" y="2819520"/>
            <a:ext cx="7185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cientific meth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the ways in which scientists answer questions and solv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ientif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900360" y="-76320"/>
            <a:ext cx="23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008000" y="2155680"/>
            <a:ext cx="71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k a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008000" y="2963880"/>
            <a:ext cx="718524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a question helps focus the purpose of the investigation. Scientists often ask a question after making an obser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, students observing deformed frogs might ask, “Could something in the water be causing the deformities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8-28T15:41:27Z</dcterms:modified>
  <cp:revision>247</cp:revision>
  <dc:subject/>
  <dc:title>No Slide Title</dc:title>
</cp:coreProperties>
</file>